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755-3929-44C0-B80A-462A504C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DC4-1A97-42E3-86CE-FC78C1EC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4DF87-3DA7-4AAA-8A8C-5291645C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2963C-8AC2-40D5-BF3E-8AB9D17E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3E8F2-3C6D-473C-96C9-F3259DB6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C6DAD-EC7C-4314-A9E0-B6A160F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9637A-4EA9-43EB-B626-B21D1F78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523CF-40DA-44B2-AA7B-C165057A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C55C2-2BC2-45A9-BF4E-4EDD9185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9E73C-E59B-4EFB-8C11-DCC33ACC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4A47B-F060-4C4B-861C-F4F2EC86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2CAF2-A2E2-44FE-A54B-7B1A32A8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E8C-C311-4661-A314-E8DDE505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7D27C-712B-4CD5-A377-42C4466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87D13-936F-4BED-A101-1D0E1E70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FE74D-DC80-4FCE-92F8-6949973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EACC4-EEDA-421A-ABDD-8F227700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B83C4-312F-499D-9B32-046A93A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C047F-4484-4FEE-AAC3-91B82C5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F30FE-9E3F-4A1A-A6F7-B6DAB7A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F3BF9-7004-42D3-B950-F328DBD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E3F1E-09B5-4BB6-962C-09E05DC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48064-8339-4F14-A274-DCF3C703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8BF-5C85-4C87-8728-59DA0619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AC62E-9D07-4193-808B-21551FDA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3F615-CD9F-4117-B615-A3A46787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7FD5-30B7-4E7A-B274-E96EDDC1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7BA8-03FD-4F5E-A636-D3A3759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6007-3300-438B-AA3C-53C93717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95FFC-3BD9-4033-9B3A-2211A578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E1ED0-C925-4AA2-98BF-381AC50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0546D-129C-4CCB-832A-DB7312E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0C608-D0B7-4FE1-A5E7-CEB1C47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8551-9D98-4061-9E17-75661D7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A541-1C0C-4ABA-A720-BC65CEB4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DBF6A-5DCC-4D8E-8516-C84CD83D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C0998-2E47-4A8B-A280-B948EFDE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EAC5A-D570-46A5-984A-D38EA0C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93A00-3C49-4827-ADF2-E7D19F0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42468-C991-41AE-A745-3D59B60D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533BC-A488-4559-97DF-4C3DEE12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3AA68-BBDB-4704-9D72-6B92106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50FF8-4FFB-4189-84AC-60806021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422DE-9700-4739-AB60-8EC4D5C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18B8E-79D3-4539-925C-1737B60C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A453-4D93-4BAD-9105-A510EBA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92DA8-10A4-43A6-825A-F9047DC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42CF3-4896-49E3-9D39-91E3DB1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3FD97-DD86-4BA7-8CE0-DDCFCA33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A311-0D4C-4571-B8E7-8A2FC993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12016-19EC-42A1-9014-A22B3FC5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6837-D6BE-4458-9448-BD129E6D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E053-5F42-4BF8-854D-1731E53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E6DA-FEE4-4B05-9573-54024B3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5ADA-D331-4C61-8E6F-950F695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47BA-DEB6-4761-BD4F-2C92FFF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B06-8057-4BBC-95A6-F04DCF93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B64-5E53-4586-8EB5-3EEE80E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7044-E218-4706-BBCC-A92301C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FB8F-6EC2-46BC-9E24-3100272D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7852-1EF2-4164-9444-1CA08B1B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BD34-AF4B-4F75-83D7-F6E0CA44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1FE3-2806-4A79-8BB9-1E85F5D9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9E51-10BE-4585-A7A6-64EB5D11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9E3D-76BD-4988-8C7E-C044F9E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EE2A-6F1A-4BE4-9786-ABC89D3E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EAA1-AC18-4512-97B8-9307F57A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3CD-B933-4E02-AE43-5199158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EF1C-08E4-4472-B514-67C7C6D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8F0C-DA59-4612-BED7-504549E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1BFC-1D1F-461B-B4E5-8CE8419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8E10-68E8-45F3-9C5E-187F12C5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AD9C-3745-4F3A-A0E6-99AC946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0478-B67C-4950-817B-B2590DF3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D60C-8980-45AE-8133-DAD1FC0F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3155-6FF0-447D-A587-C29CB5D0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C6F9-30BD-4A0A-878C-BA7010C6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C375-7DC7-48C7-B8B7-E18247D1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7E2-0825-4275-BF5F-6EA2ED7D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7EB6-711F-4968-87FE-60A18AF9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0936-9013-4C6E-8173-A356EFA7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CE19-D3C2-4710-B2B0-421D58B9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CCC7-901D-40A9-91B3-659564F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3224-AFA1-44A1-87BB-CA5C753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0B18-D780-43AC-83B6-05C787F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2B50-4618-470E-ABFF-D0D8601F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07154-2E88-4183-91BB-D5B5D33F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2BCC-632D-43CE-8E8B-0766455B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FF26-9C95-4242-8C38-7F4B1E2F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55D-88B7-4CBE-8FED-9FC7EDC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B8C13-A97D-4908-9A36-DFA3B2F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2B86-0D0D-4609-9A32-AE80B6B7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71B3-71A3-481D-A237-F8EBAA28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0361-16A9-45AE-9E84-8C8C2FD0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549A-93BE-4C94-BBC6-B0DF0F2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92A0-87A7-466F-875E-BA6D698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358CD-C9B4-4882-803A-4999AF1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2D17-AE15-4226-A7C5-6D5849D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733DA-62AC-4318-A4C2-879F4D4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AFB5-0716-40D8-86EF-B8C354A5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ECF-CCC8-4E17-9FBF-1F50890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48EB0-F304-4B64-B067-DFD4B334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8485-77F3-4FE5-B357-DB3D7E99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40B6C-5CEA-472B-9997-F214B77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B7C94-142D-42E2-A0F1-D4F40F3A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AC84-1E15-43E7-B268-9021F45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03858-27A7-4278-9144-E34971D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72CD6-3A29-4C7E-8F0A-8E591A9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7F8B-57B4-43D9-B295-5EFEC90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40A6-AD93-442A-8274-FBC04A5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9BC0-5B87-4D9C-858F-DB32C4A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E22-3380-4CDC-9706-0E77230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A3E43-D5C6-4B8F-90CF-F8DD206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844B-E85D-495C-989B-104ACE5C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6BAA-8355-48C5-BAE5-39D83973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8ECD-DFF4-4DC1-8B64-6D871F7B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D033-7C22-4DB6-94C3-ED7813B9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F0E39-3680-4345-8323-58BE167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55E0-4DC3-4029-B1A0-EF19D552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A745-9CE2-4E5D-8D33-B4C064FA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35852-7CBA-4123-8AB3-99F4703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2E6C-8C98-4658-9E21-C8D35DB1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54A-3011-4403-82C4-2739EA92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BA03-C30F-43F7-8EC9-F7A7A4C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9BB7-3043-4755-B7A9-003DBBA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0037-77DA-4C38-829B-1FCDFB8E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A8A0-0EE0-4BE4-98EA-C94642C7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93361-BFD9-4F49-BA67-D8F7ED6A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657F-260A-4E50-8EE3-E9D6A0B2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6C6A-9E0C-4CD5-80E0-69173897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7089D-AA36-42A6-85F4-783188AD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B5C7-77A9-4C5A-A53E-604CFBF2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49CE9-DCD9-46FE-8C62-491234A1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6EC-2080-4EF0-B6BE-9B00173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2028-7709-455D-8D24-AC642C6B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91D9E-C45E-4C72-A975-66E753B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72D86-4E03-4A9E-8831-31B527B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79A5-AC58-4FB9-8A69-04BFEAD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B921-76F2-46FB-89DE-5579D2B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A2E6-9D70-4CD3-AF48-9B34E6EA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536FF-F11C-421C-A598-BCAB273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397B7-2919-463B-B358-05EEFFA2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DBF62-C7DF-43FB-852B-E10C41FD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C4AA9-74F8-4C62-929C-E9B1BA35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D42C-A7FE-497C-8C3B-253222A212D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85FC-A4D1-40FA-91BD-9A9BA843BB0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C46A-4500-4447-8CA0-9B72F5C47A5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7A0E-5835-49A0-85D3-A638CB68DC4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182D-8669-4F43-9EFD-05F97EF15E0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5F57-2C9A-441F-8CB8-ADD37DC82B6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115-1907-43DC-AD8C-90F2F4E94FA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3BCC-DE7B-450D-B353-99BF6573D56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04C-52B2-43E1-8313-70D578A8232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F2D4-9B76-4411-A720-96E957924D9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406-C060-4BC9-B7F7-7395A034BE0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74E6-B08A-4FBC-A18F-CF52492F53A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53103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3060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SOL REVIEW MATERIALS FOR UNIT FOU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63600" y="5945040"/>
            <a:ext cx="84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  <a:ea typeface="Andalus"/>
              </a:rPr>
              <a:t>Conflict and Cooperation – The Spanish-American War and the United States Foreign Policy in Latin America, 1898 - 1930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THE ROOSEVELT COROLLARY TO THE MONROE DOCTRIN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6" name="Content Placeholder 3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624200" cy="3733560"/>
          </a:xfrm>
          <a:prstGeom prst="rect">
            <a:avLst/>
          </a:prstGeom>
          <a:ln w="0">
            <a:noFill/>
          </a:ln>
        </p:spPr>
      </p:pic>
      <p:sp>
        <p:nvSpPr>
          <p:cNvPr id="607" name="Rounded Rectangle 4"/>
          <p:cNvSpPr/>
          <p:nvPr/>
        </p:nvSpPr>
        <p:spPr>
          <a:xfrm>
            <a:off x="609480" y="1828800"/>
            <a:ext cx="327672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United States claimed the right to intervene in any part of the Caribbean, Central America, or South America if their was a disturbance.  In essence we were establishing our own Sphere of Influence in the Western Hemispher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oudy Stout"/>
              </a:rPr>
              <a:t>THE CONSTRUCTION OF THE PANAMA CANAL IS AN EXAMPLE OF BIG STICK DIPLOMACY.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9" name="Content Placeholder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118120" cy="3810240"/>
          </a:xfrm>
          <a:prstGeom prst="rect">
            <a:avLst/>
          </a:prstGeom>
          <a:ln w="0">
            <a:noFill/>
          </a:ln>
        </p:spPr>
      </p:pic>
      <p:sp>
        <p:nvSpPr>
          <p:cNvPr id="610" name="Rounded Rectangle 4"/>
          <p:cNvSpPr/>
          <p:nvPr/>
        </p:nvSpPr>
        <p:spPr>
          <a:xfrm>
            <a:off x="6019920" y="1523880"/>
            <a:ext cx="2743200" cy="38862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886200"/>
              <a:gd name="textAreaBottom" fmla="*/ 3752280 h 3886200"/>
            </a:gdLst>
            <a:ahLst/>
            <a:rect l="textAreaLeft" t="textAreaTop" r="textAreaRight" b="textAreaBottom"/>
            <a:pathLst>
              <a:path w="21600" h="30599">
                <a:moveTo>
                  <a:pt x="3600" y="0"/>
                </a:moveTo>
                <a:arcTo wR="3600" hR="3600" stAng="16200000" swAng="-5400000"/>
                <a:lnTo>
                  <a:pt x="0" y="26999"/>
                </a:lnTo>
                <a:arcTo wR="3600" hR="3600" stAng="10800000" swAng="-5400000"/>
                <a:lnTo>
                  <a:pt x="18000" y="30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riginally, Columbia (capital city: Bogota) refused to give the US permission to build the Panama Canal.  Roosevelt resorted to force, though.  He encouraged Panama to claim independence, sent in the USS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Nashville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, and signed a treaty to build the cana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udy Stout"/>
              </a:rPr>
              <a:t>THANKS TO THEODORE ROOSEVELT, THE  PANAMA CANAL WAS COMPLETED IN 1914, JOINING THE ATLANTIC AND THE PACIFIC OCEAN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2" name="Content Placeholder 3" descr=""/>
          <p:cNvPicPr/>
          <p:nvPr/>
        </p:nvPicPr>
        <p:blipFill>
          <a:blip r:embed="rId1"/>
          <a:stretch/>
        </p:blipFill>
        <p:spPr>
          <a:xfrm>
            <a:off x="3733920" y="1857240"/>
            <a:ext cx="4908600" cy="33530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2666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Placeholder 4" descr=""/>
          <p:cNvPicPr/>
          <p:nvPr/>
        </p:nvPicPr>
        <p:blipFill>
          <a:blip r:embed="rId1"/>
          <a:srcRect l="0" t="10640" r="0" b="10640"/>
          <a:stretch/>
        </p:blipFill>
        <p:spPr>
          <a:xfrm>
            <a:off x="4572000" y="609480"/>
            <a:ext cx="3886200" cy="419112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tection of American business interests in Cuba.  The United States had and interest in many Cuban businesses: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i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ugar Cane Refinerie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bacco Plantation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Hotels and Casino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gricultural Product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Placeholder 4" descr=""/>
          <p:cNvPicPr/>
          <p:nvPr/>
        </p:nvPicPr>
        <p:blipFill>
          <a:blip r:embed="rId1"/>
          <a:stretch/>
        </p:blipFill>
        <p:spPr>
          <a:xfrm>
            <a:off x="4797360" y="1066680"/>
            <a:ext cx="3435480" cy="419112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764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American support of Cuban rebels to gain independence from Spain: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For almost a decade, Americans had been raising money for Cubans seeking independence.  Jose Marti was the leader of the Cuban independence movement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Americans gave money to the cause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Placeholder 4" descr=""/>
          <p:cNvPicPr/>
          <p:nvPr/>
        </p:nvPicPr>
        <p:blipFill>
          <a:blip r:embed="rId1"/>
          <a:srcRect l="16126" t="0" r="16126" b="0"/>
          <a:stretch/>
        </p:blipFill>
        <p:spPr>
          <a:xfrm>
            <a:off x="4572000" y="1066680"/>
            <a:ext cx="3886200" cy="419112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3754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Rising tensions between Spain and the United States as a result of the sinking of the USS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in Havana Harbo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USS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exploded in Havana Harbor on February 15, 1898.  The circumstances were mysterious, but it is likely that the ship’s destruction was an accident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Remember the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!” was the battle cry of the United States during the war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re were exaggerated news reports of the events in Cuba – a practice known as “yellow journalism.”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Newspaper editors William Randolph Hearst and Joseph Pulitzer both engaged in this practice, blaming the Spanish for atrocities – like the explosion of the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y wanted the US to declare war on Spain, some said, only to sell newspapers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2" name="Picture Placeholder 10" descr=""/>
          <p:cNvPicPr/>
          <p:nvPr/>
        </p:nvPicPr>
        <p:blipFill>
          <a:blip r:embed="rId1"/>
          <a:srcRect l="0" t="1703" r="0" b="1703"/>
          <a:stretch/>
        </p:blipFill>
        <p:spPr>
          <a:xfrm>
            <a:off x="4572000" y="914400"/>
            <a:ext cx="3886200" cy="480060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RESULTS OF THE SPANISH AMERICAN W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4" name="Content Placeholder 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715000" cy="3760920"/>
          </a:xfrm>
          <a:prstGeom prst="rect">
            <a:avLst/>
          </a:prstGeom>
          <a:ln w="0">
            <a:noFill/>
          </a:ln>
        </p:spPr>
      </p:pic>
      <p:sp>
        <p:nvSpPr>
          <p:cNvPr id="595" name="Rounded Rectangle 6"/>
          <p:cNvSpPr/>
          <p:nvPr/>
        </p:nvSpPr>
        <p:spPr>
          <a:xfrm>
            <a:off x="6477120" y="114300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United States emerged as a world power,  earning the respect of major military powers in Europe after decisively defeating the Spanish in the war.   Other imperialist nations took note:  the United States was a formidable oppon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RESULTS OF THE SPANISH AMERICAN W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7" name="Content Placeholder 1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789880" cy="3733560"/>
          </a:xfrm>
          <a:prstGeom prst="rect">
            <a:avLst/>
          </a:prstGeom>
          <a:ln w="0">
            <a:noFill/>
          </a:ln>
        </p:spPr>
      </p:pic>
      <p:sp>
        <p:nvSpPr>
          <p:cNvPr id="598" name="Rounded Rectangle 13"/>
          <p:cNvSpPr/>
          <p:nvPr/>
        </p:nvSpPr>
        <p:spPr>
          <a:xfrm>
            <a:off x="6629400" y="129528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t the end of the war, Spanish misrule over Cuba was over.  Cuba gained its independence.  The United States still considered Cuba a protectorate, however – meaning that while Cuba was independent,  our nation could intervene in their affairs if turmoil or disorder occurred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RESULTS OF THE SPANISH AMERICAN W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294920"/>
            <a:ext cx="41148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At the end of the Spanish-American War, the United States also claimed three colonies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Gua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uerto Rico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The Philippines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In the Philippines, a brutal civil war was conducted, and hundreds of thousands died before the United States took over the islands.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1" name="Content Placeholder 4" descr=""/>
          <p:cNvPicPr/>
          <p:nvPr/>
        </p:nvPicPr>
        <p:blipFill>
          <a:blip r:embed="rId1"/>
          <a:stretch/>
        </p:blipFill>
        <p:spPr>
          <a:xfrm>
            <a:off x="4992840" y="1536840"/>
            <a:ext cx="3273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THE ROOSEVELT COROLLARY TO THE MONROE DOCTRIN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1920" y="1536840"/>
            <a:ext cx="29718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The Roosevelt Corollary asserted the United States’ right to interfere in the economic matters and disputes of nations in Latin America or the Caribbean – the entire Western Hemisphere.  Indeed, we claimed that we had the right to settle any disputes – financial or political, between nations in the Western Hemisphere.  We were the new police power in the region.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4" name="Content Placeholder 3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399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8:50:17Z</dcterms:created>
  <dc:creator>LATHOMPS</dc:creator>
  <dc:description/>
  <dc:language>en-US</dc:language>
  <cp:lastModifiedBy>Adam</cp:lastModifiedBy>
  <dcterms:modified xsi:type="dcterms:W3CDTF">2013-04-22T01:30:19Z</dcterms:modified>
  <cp:revision>12</cp:revision>
  <dc:subject/>
  <dc:title>Unit 4</dc:title>
</cp:coreProperties>
</file>